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B0ECCE3-A2D3-43B2-BD89-22CD475D7A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43968F-36DD-4EB2-9EA4-0E9480EF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506A01E-E598-4CA5-98F5-845B1B216D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94E7D7-C77A-4B4E-AA20-7337891BA0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CE29DDC-E28B-4E3D-9E7C-8352C550C1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AB27EBC-445E-4A05-848B-124EE56831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7025A15-AD48-4D1E-86EA-14F7BE191B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C4105D9-81C5-4E1B-B9CB-90C47C221D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6FA93E7-EAF1-4A02-BB36-9DEFDBA6B1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8AACD28-28A8-4D9F-964B-183443BBC5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91DEBC-FCFF-4B8B-91D7-AD48277400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EDBDBAF-1C4F-419D-B79A-2770DC3EB5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8FF7ED6-0EEB-4D50-A73E-348FCA912B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E8EA838-E471-4D0B-949C-5358C2CE19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C951F2C-8648-470E-8FE8-E7F40F7B96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5F5A013-CC02-4262-B269-E807962EB7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05C8CE6-98E1-4A6E-AC1E-7EE46BE7F3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AB4364-4F5B-4470-9583-C28CE1EE3E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1F70D21-DF23-4A8F-86C0-AAF1258AF7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51CEF50-C79F-4592-8187-3A1A8D95C9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87D4ADC-2579-47C1-AB2F-58BE2CB090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A0911F-CC3A-4A53-9569-0CB13CF344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8920" y="74124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D9E8B3C-877D-43BB-9E75-8D7AC8558B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598320" y="2887200"/>
            <a:ext cx="5964480" cy="597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steps in the PROBE meth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2028960" y="623880"/>
            <a:ext cx="2869920" cy="2152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0F8F-2E02-4FB5-94C6-86541C9AB7B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B21-8E3D-4594-9CB8-F3E30B77060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F7C2-40DB-4700-8A40-A63D97C237E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994-938A-47BD-9145-60036B84332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D5A-C744-4610-A65B-3523E964A2F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374-6715-4825-A600-D325FF674B0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B389-1B88-4E6C-8701-E00BB5734A8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5D40-8736-4CFB-99D7-0A13B0DF3A0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535-30F1-4C49-B648-2C533E94D50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4F7-71AB-4528-B049-54F45910B74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FACB-20F8-467A-926A-8F65AB1F0C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56A-CC60-42C1-8556-EFF7CE21977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958-9542-45EF-8742-25F32BC06C0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B17-8955-4DA3-AA91-2DC5C2B0CC0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C86E-E78F-4621-9BCC-F37407DAC1F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0D0-7A5C-48A1-BACF-D2F41F8DFFF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Using PSP1 - </a:t>
            </a:r>
            <a:fld id="{A3C4FF99-551D-4F9C-BCFB-03CDB9C0F27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87200" y="174600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081480" y="17636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design relates the requirements to the parts needed to produce the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rts neede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arts – an existing part that can be used but will require modif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parts – new parts that need to be develop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parts – an existing part that can be used as-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nd Size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parts are new parts that must be developed and their size must be estim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of an added part is determined by using a prox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part type, e.g. calculation, IO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number of items, e.g.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relative size, i.e. very small, small, medium, large, or very lar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size of an item of this part type and relative size in the relative siz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estimated size = size of an item * number of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Other Element Siz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parts are existing parts that will be changed by adding, deleting, or modify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estimate of a base part is its actual size and an estimate of the additions, deletions, and modif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parts are parts that are used without mod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estimate of a reused part is its actual si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Base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02960" y="1638000"/>
            <a:ext cx="741348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name of the base part or use the combo box to select a part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size of the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41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base size if the part was not selected from the parts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4160" indent="-41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estimated deleted, modified, and added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7" descr="S13"/>
          <p:cNvPicPr/>
          <p:nvPr/>
        </p:nvPicPr>
        <p:blipFill>
          <a:blip r:embed="rId1"/>
          <a:stretch/>
        </p:blipFill>
        <p:spPr>
          <a:xfrm>
            <a:off x="1131840" y="4629240"/>
            <a:ext cx="725976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dd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002960" y="1638360"/>
            <a:ext cx="7413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added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art n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par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relative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size is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0" descr="S14"/>
          <p:cNvPicPr/>
          <p:nvPr/>
        </p:nvPicPr>
        <p:blipFill>
          <a:blip r:embed="rId1"/>
          <a:stretch/>
        </p:blipFill>
        <p:spPr>
          <a:xfrm>
            <a:off x="1027080" y="4098960"/>
            <a:ext cx="7261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Reused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2960" y="1638000"/>
            <a:ext cx="741348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, enter each reused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name of the reuse part or use the combo box to select a part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lanned size of the reuse part if the part was not selected from the parts lib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S15"/>
          <p:cNvPicPr/>
          <p:nvPr/>
        </p:nvPicPr>
        <p:blipFill>
          <a:blip r:embed="rId1"/>
          <a:stretch/>
        </p:blipFill>
        <p:spPr>
          <a:xfrm>
            <a:off x="1017720" y="3735360"/>
            <a:ext cx="725940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Projected Size and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03320" y="1638000"/>
            <a:ext cx="35640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size and time are calculated from estimated part size using historical data and PROBE method A, B, C, or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E Calculation Worksheet automates these calc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990720" y="4697280"/>
            <a:ext cx="753264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lanning, select a PROB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ethod for program size (A, B, C, or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ethod for time (A, B, C, or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3" descr="S16"/>
          <p:cNvPicPr/>
          <p:nvPr/>
        </p:nvPicPr>
        <p:blipFill>
          <a:blip r:embed="rId1"/>
          <a:stretch/>
        </p:blipFill>
        <p:spPr>
          <a:xfrm>
            <a:off x="4754520" y="1676520"/>
            <a:ext cx="388152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PROBE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020600" y="1638000"/>
            <a:ext cx="2811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E script includes guidelines for selec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ameters referenced in the script can be found at the bottom of the size estimating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1020600" y="4676760"/>
            <a:ext cx="28004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61800" indent="-361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sele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200" indent="-362160">
              <a:buClr>
                <a:srgbClr val="000000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5"/>
          <p:cNvSpPr/>
          <p:nvPr/>
        </p:nvSpPr>
        <p:spPr>
          <a:xfrm>
            <a:off x="4645080" y="5305320"/>
            <a:ext cx="3495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data can be grap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C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381240">
              <a:buClr>
                <a:srgbClr val="000000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8" descr="S17"/>
          <p:cNvPicPr/>
          <p:nvPr/>
        </p:nvPicPr>
        <p:blipFill>
          <a:blip r:embed="rId1"/>
          <a:stretch/>
        </p:blipFill>
        <p:spPr>
          <a:xfrm>
            <a:off x="3940200" y="1700280"/>
            <a:ext cx="4538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s Transferred to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5226120" y="2195640"/>
            <a:ext cx="3039840" cy="4319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301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are automatically transferred to the Plan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"/>
          <p:cNvPicPr/>
          <p:nvPr/>
        </p:nvPicPr>
        <p:blipFill>
          <a:blip r:embed="rId2"/>
          <a:srcRect l="1275" t="6758" r="7612" b="2385"/>
          <a:stretch/>
        </p:blipFill>
        <p:spPr>
          <a:xfrm>
            <a:off x="0" y="2195640"/>
            <a:ext cx="3040200" cy="431964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8"/>
          <p:cNvSpPr/>
          <p:nvPr/>
        </p:nvSpPr>
        <p:spPr>
          <a:xfrm>
            <a:off x="4381560" y="3807000"/>
            <a:ext cx="614160" cy="1079280"/>
          </a:xfrm>
          <a:prstGeom prst="rightArrow">
            <a:avLst>
              <a:gd name="adj1" fmla="val 50000"/>
              <a:gd name="adj2" fmla="val 449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24440" y="1550880"/>
            <a:ext cx="3490920" cy="4961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8" descr=""/>
          <p:cNvPicPr/>
          <p:nvPr/>
        </p:nvPicPr>
        <p:blipFill>
          <a:blip r:embed="rId2"/>
          <a:srcRect l="1229" t="22280" r="12184" b="57656"/>
          <a:stretch/>
        </p:blipFill>
        <p:spPr>
          <a:xfrm>
            <a:off x="1065240" y="4764240"/>
            <a:ext cx="3502080" cy="12348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ostmortem the actual size of parts is entered on the size estimating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size of the program is entered in Total, under Actual, in the Program Size Summary section of the project plan summ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1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1 for program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Base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02960" y="1638000"/>
            <a:ext cx="7413480" cy="24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base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base, deleted, modified, and added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7080" indent="-37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7" descr="S20"/>
          <p:cNvPicPr/>
          <p:nvPr/>
        </p:nvPicPr>
        <p:blipFill>
          <a:blip r:embed="rId1"/>
          <a:stretch/>
        </p:blipFill>
        <p:spPr>
          <a:xfrm>
            <a:off x="1036800" y="4305240"/>
            <a:ext cx="7259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Added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02960" y="1638360"/>
            <a:ext cx="741348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added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356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0" descr="S21"/>
          <p:cNvPicPr/>
          <p:nvPr/>
        </p:nvPicPr>
        <p:blipFill>
          <a:blip r:embed="rId1"/>
          <a:stretch/>
        </p:blipFill>
        <p:spPr>
          <a:xfrm>
            <a:off x="971640" y="4260960"/>
            <a:ext cx="725796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Reused Par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02960" y="1638000"/>
            <a:ext cx="74134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, enter the size of each reuse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size of the reuse 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4320" indent="-36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36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part not used, enter zeros in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7" descr="S22"/>
          <p:cNvPicPr/>
          <p:nvPr/>
        </p:nvPicPr>
        <p:blipFill>
          <a:blip r:embed="rId1"/>
          <a:stretch/>
        </p:blipFill>
        <p:spPr>
          <a:xfrm>
            <a:off x="988920" y="4154400"/>
            <a:ext cx="725976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Total Actual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02960" y="1638000"/>
            <a:ext cx="741348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enter the actual tot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S23"/>
          <p:cNvPicPr/>
          <p:nvPr/>
        </p:nvPicPr>
        <p:blipFill>
          <a:blip r:embed="rId1"/>
          <a:stretch/>
        </p:blipFill>
        <p:spPr>
          <a:xfrm>
            <a:off x="1044720" y="3022560"/>
            <a:ext cx="74358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ccuracy will fluctu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estimates will have some b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adjusts for bias using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ineering judgment is still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of PSP1 is to establish an orderly and repeatable procedure for developing software siz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process element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size estimating method and size estimat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repor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y section has been added with plan, actual, and to-dat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summary includes planned size for all size accounting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values except the Total Size under Actual in the Program Size Summary are now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Project Plan Summar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SP1 Project Plan Summary includes a new summary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mary section includes plan, actual, and to-date produ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gram size summary section has been expanded to report planned size for all size accounting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values except total actual size are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4764240" y="1525680"/>
            <a:ext cx="3644640" cy="50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 Project Plan Summar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1"/>
          <a:srcRect l="1229" t="17882" r="27062" b="77069"/>
          <a:stretch/>
        </p:blipFill>
        <p:spPr>
          <a:xfrm>
            <a:off x="1243080" y="4411800"/>
            <a:ext cx="5943600" cy="5950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301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, actual, and to-date productivity is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the number of added and modified size uni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ductivity = A&amp;M Size / Total Development Time * 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Report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form to record data on each of your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est was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est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hat we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ful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and recording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ing regress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rcRect l="2541" t="7146" r="10267" b="23473"/>
          <a:stretch/>
        </p:blipFill>
        <p:spPr>
          <a:xfrm>
            <a:off x="4564080" y="1735200"/>
            <a:ext cx="387504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E and the Size Estimat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83120" y="1525680"/>
            <a:ext cx="3560760" cy="50464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78584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PSP1, the PROBE method is used for making size and time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Estimating Template is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input to the PROB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estimated size a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ctu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65080" y="860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 in the PROBE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5" descr="S9"/>
          <p:cNvPicPr/>
          <p:nvPr/>
        </p:nvPicPr>
        <p:blipFill>
          <a:blip r:embed="rId1"/>
          <a:stretch/>
        </p:blipFill>
        <p:spPr>
          <a:xfrm>
            <a:off x="1027080" y="1568520"/>
            <a:ext cx="7089840" cy="499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8Z</dcterms:modified>
  <cp:revision>167</cp:revision>
  <dc:subject/>
  <dc:title>No Slide Title</dc:title>
</cp:coreProperties>
</file>